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png" ContentType="image/png"/>
  <Override PartName="/ppt/media/image23.png" ContentType="image/pn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7E16-537A-446B-ADAD-6C242F7F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718C-65DC-4FA7-AF14-FD4A0B3E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0F696-19A0-4BE9-9545-B6E25A5E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82B0C-D077-4B95-89EB-14BF5687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904A8-EAC7-4B4E-8A0E-CAA8485C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D3AF5-BBAB-49AF-9641-7862BEA2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614DF-2AB0-441A-BC2A-609199E1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C8C32-545E-4FC4-B71B-505C3EE1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7C7E9-B146-43BD-A424-46BF5E9E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019F9-8D17-41A7-A382-831405CC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13A9C-5026-42AC-874A-16F28509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384B0-8676-40A7-A5C0-1A09CC88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BE78-9423-4507-BBAC-1B63DE6A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D8582-8D4A-493C-BFCD-9A865A6E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52A95-D300-4EF3-AD32-44CC5CCC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90DFB-B74C-4E17-B721-D844832B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227D0-24D7-413F-AC1E-FC09727A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66686-2F9F-43E4-9E6C-267F9187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9CC20-5DFC-453F-AC4D-9AA3A33E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7EEC7-F33A-454D-8BD1-17E449D7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2A452-197F-4071-ABE5-E1BD5282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74B66-10F1-4774-B3F0-93034437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75360-A678-482B-91EB-E7E1ED7A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BFD1-49CA-48B3-B5F9-46FBA45F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F199B-6505-43F0-8C89-180B9D7A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EF779-2EC4-4D7A-8BEB-47DD4E29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18EB0-FE86-4046-B1DF-085952FC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91C39-EDCC-40EF-804C-DACE3E5C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01A24-495B-4699-9E72-5C1D756C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CCC20-8DE3-479D-B190-3C484A52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F9E9A-F534-4964-88E9-ECBFB03B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9B00B-FE43-4331-A06F-4CD088A5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D74C9-FE3C-47F4-9ACD-231431FD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8F9B2-FCDD-4B58-831F-83C1BFD6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509B-8DF4-4E8F-8F19-7E0F1102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1864D-4B6D-4E1E-A4DE-28FFA85F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BE269-FD5C-4DA5-893F-2D711303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D7FDC-5E16-4EC8-AE10-00B9C502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EDFA9-45E0-405D-8815-D04BF439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D9075-B11F-40C7-9C52-C2618FAD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BBF0E-437D-4CD8-B996-DA616512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CB8EC-452E-4469-9681-06D807DE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F8BFD-C532-48DC-B629-5DBB1F96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70F64-2A26-4FF5-8FED-154D1635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595A2-660B-44A9-BC7F-433E6E00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7DC9-BFC7-49CA-8880-E6ED6D97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27234-09DC-4D38-9F9E-4C38FA7C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7077F-28D0-46B6-AB00-DA768051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5E667-B1FD-44F1-A3F3-D90A41F6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285F7-F634-4BC8-9633-904C08FD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6E15E-EBBE-4B2A-BA0F-88D466A9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78523-1A62-4BC5-802C-59C0D897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0C93F5-00F2-4DD3-9707-576E5E09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78AAEB-1588-4690-A1D1-7190FD33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201AF-D22B-4436-8028-7C5E0B6E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DF9046-6DE6-4F61-B32E-7E5770FF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3457-84FF-4200-AE42-577DCDD0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423F5-C490-41B1-9C6E-C42B55F9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652BB1-3409-410F-B9A9-43AB763A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CB29B-CF94-49F9-B837-BB356941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A850D9-FE7C-4F74-832D-F4CA202F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CD5FF9-A177-462F-8BCD-D6F64911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36FDBE-7C73-4B70-AFEF-0185CE83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7558C9-27B7-469D-AED2-49C9BC05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159D-F9D5-432E-B75D-D0033087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EB54-D73C-4AF2-A620-3EF53457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7E41-7FC9-47A2-90BD-D24F19D7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F069-B162-431A-832F-E4B6DFF0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053-BE10-42B0-A01A-CA48E3AB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18B8-F9DC-4511-8E6C-F57B3527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D29D-41D9-48DA-8917-19EE84EF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1D4C-1F7E-4F4A-A2FD-BF434557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3BAE-1FF8-484A-903B-0156AC17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FCE2-773B-4639-92F9-4E61DE00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A7227-CCDC-4628-AF49-AEA566B4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115A8-477C-4DBF-A6DE-D2DA7397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5ADD8-5EFB-4300-BA56-FC62E930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551B6-B48E-4C60-9699-0951CCD1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E2ED8-2A57-4ACC-979D-9DAB05A4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92E-E5FF-4107-97DB-3F79206A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1C922-3D5E-446C-9819-F3889734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954A5-BA99-4753-90C4-456152D7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62924-98AB-4ED6-80AA-2B596559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B2879-C313-4365-AA9C-C35E2A99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BCC93-1C76-483E-8074-F82CFEF9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BAD71-50BA-49EC-987D-1CFEC37D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4D500-D496-414A-85E3-6B767392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AFC0A-D50D-4AA1-A6DC-5AC68B47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D9EF6-A9B5-4D8B-99D3-44D26629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0D6AE-4D20-4F51-9684-F329A055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1210-6DC9-4750-843F-BD95E1AA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31135-E89E-4429-A0E3-C603D827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E2AE4-6FCD-4C52-8C56-94CBFA96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F2374-BEB4-4B9A-B692-AC373BC2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EEA05-D517-4D57-8728-7D804E5A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9C9C2-58E1-44C4-A5F2-084C9F21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BD997-D607-497B-9E0F-763D81A2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2E259-4701-4A9C-92DB-6F56EB98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E743B-DC03-45DE-A944-35A713D4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B2581-AEB1-46CD-B478-1B6BBA0C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9B38B-7C25-4A22-8D72-BBE15913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C83D-0873-4D8E-A620-C9E2681D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04C1B-29D9-40A3-918D-50868FCF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09085-9678-4976-9478-1E125C88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39526-95CD-4BAE-97CB-C8CBAE3E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042B1-1CF5-479C-88DA-DCC7F44F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78467-8459-4FD6-986A-010FA191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C0739-802E-40BE-AF46-745375A6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4638E-3E52-4045-94D9-CB12A8E0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744FC-027E-45EF-B167-D18CD882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9D76A-4E84-4954-ACF4-020261FB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4332E-9955-4AD8-9777-D23B1959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3B4B-C04C-4083-9188-9BEC1548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A510E-C469-4F91-8889-2A8753A8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753CB-15A4-41B0-A0EA-00357B57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F38F1-27DF-4271-8691-1FD67F6B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18BF1-90C5-428E-91ED-19D71F06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1D722-3C83-4B53-841E-C5CF95E2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BFEF5-01D7-4328-92BD-371609DE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88520-C93A-4B14-B25E-4A78284B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7EE8B-1FFB-44DC-88AF-C41321E2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DF5BB-6BFA-4162-8AE6-74B25C2E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F1474-0C07-450C-9A50-1B9E01E0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A723-4E5B-4AD8-8740-25DD432B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67021-0CF0-406A-8DF9-C2B0A8A9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FA29E-D03D-4571-804D-FC17EC81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A455C-D098-4F51-B920-F125EE78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851B9-5620-4A5C-8B5C-AE344D1A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F918F-5122-43EE-A826-ED818B21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DF261-345E-4E06-9E2E-2C36C889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1423B-3A78-4391-9D83-58F710D8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A4257-B381-45F9-BBAB-A43DEAF9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83DC6-5071-41E3-A826-D151C1DC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92BFC-E572-49E1-A630-2AF8D1C9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16CE-DB1B-4277-BAAF-1B1E201D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F8C0D-933A-4B41-96DD-66673AA9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84EA8-95E2-45F4-8B91-D6116143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A56C1-D20B-4B9A-AD73-8D948BCB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17CC1-34C4-41F0-8F5E-F11EA859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ED743-DEF3-47A1-8DF1-1DF3151D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45A30-FB71-4FCF-A772-647E377D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576C1-D8F3-4ADA-9298-F040D28C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1FFB8-75E2-4E6A-AB83-A5EF81F4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B9E45-3278-4F09-9389-BE93C68B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094D3-AD4E-4545-9B59-C76C1216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3EF-B095-4486-BDC7-83DCF9D4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FF964-3E41-4CA7-8C7D-852F2131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F7287-050B-4A4D-8A35-9FC6DA60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12839-58A1-4695-8C98-DC9087A1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E71DC-826A-45DB-B91E-BC33DEC0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D4018-6A5A-4DB3-9048-50856F45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AB08B-8B68-4F9B-A8DE-A407C9D7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6E8E5-3544-4595-B543-D67F1572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F53A9-8A89-4773-B4E5-CDBA0339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05A79-68FF-4BEB-9CDC-665F88C3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B9D69-F738-465E-9CF9-E093BC7E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C712-FAAE-43FA-A257-2C31BD885D9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5C3A-FACF-4EAC-8678-F8E113E2331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олилиния 13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олилиния 14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Группа 15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2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3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6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509A-9120-4A71-B224-80460AEE824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Полилиния 13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олилиния 14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2" name="Полилиния 16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3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6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CDA1-9588-4CDC-9F0D-CB226CA4D09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892F-C301-41C8-9E29-FAB2527222B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8E63-24C8-4535-AB06-E0660F0A7E6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10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9AC8-DC18-4925-B1C8-0800B8F9227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5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E902-FFE2-43BE-8407-80FA126B115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DB57-C8CF-40B7-B76D-021A6C8CB50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CF8D-D7CE-4DCA-A39D-EE4D96B62F7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0856-5B82-405E-B065-09DADC04BA6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2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BB1B-0930-495A-B4C4-ECE84B9A849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87EB-3B03-4F22-B961-1754696223B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АЮЩИЙ УРОК ПО ТЕМЕ:                          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ЗАКОНЫ ПОСТОЯННОГО ТОКА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ли урок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повторить основные понятия и законы постоянного тока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совершенствовать навыки решения задач различного типа;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проверить уровень знаний по данной теме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развивать познавательную активность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стимулировать логическое мышление, активность и самостоятельность студентов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развивать умение сравнивать, анализировать, делать выводы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развивать навыки самоконтроля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развивать коммуникативные способности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-360" y="7045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                        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кроссворд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928800" y="1357200"/>
          <a:ext cx="7467480" cy="477072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Прямая соединительная линия 5"/>
          <p:cNvSpPr/>
          <p:nvPr/>
        </p:nvSpPr>
        <p:spPr>
          <a:xfrm>
            <a:off x="3571920" y="4143240"/>
            <a:ext cx="500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ая соединительная линия 6"/>
          <p:cNvSpPr/>
          <p:nvPr/>
        </p:nvSpPr>
        <p:spPr>
          <a:xfrm>
            <a:off x="3643200" y="5357880"/>
            <a:ext cx="500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ая соединительная линия 7"/>
          <p:cNvSpPr/>
          <p:nvPr/>
        </p:nvSpPr>
        <p:spPr>
          <a:xfrm>
            <a:off x="3643200" y="3786120"/>
            <a:ext cx="5000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Прямоугольник 1"/>
          <p:cNvSpPr/>
          <p:nvPr/>
        </p:nvSpPr>
        <p:spPr>
          <a:xfrm>
            <a:off x="3361680" y="2142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48"/>
          <p:cNvSpPr/>
          <p:nvPr/>
        </p:nvSpPr>
        <p:spPr>
          <a:xfrm>
            <a:off x="857160" y="714240"/>
            <a:ext cx="828684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бал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представлена схема электрической цепи с сопротивлениями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8 Ом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0 Ом,       Определить токи резисторах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если напряжение приложенное к цепи равно 120 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оугольник 62"/>
          <p:cNvSpPr/>
          <p:nvPr/>
        </p:nvSpPr>
        <p:spPr>
          <a:xfrm>
            <a:off x="857160" y="4286160"/>
            <a:ext cx="73580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5 балл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представлена схема электрической цепи с сопротивлениями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2 Ом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0 Ом,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0 Ом. Определить токи в ветвях, если напряжение приложенное к цепи равно 120 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63"/>
          <p:cNvSpPr/>
          <p:nvPr/>
        </p:nvSpPr>
        <p:spPr>
          <a:xfrm>
            <a:off x="785880" y="2428920"/>
            <a:ext cx="78580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бал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представлена схема электрической цепи с сопротивлениями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0 Ом,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0 Ом     Определить токи в резисторах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если напряжение приложенное к цепи равно 120 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оугольник 64"/>
          <p:cNvSpPr/>
          <p:nvPr/>
        </p:nvSpPr>
        <p:spPr>
          <a:xfrm>
            <a:off x="5429160" y="17146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1=I2=2,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65"/>
          <p:cNvSpPr/>
          <p:nvPr/>
        </p:nvSpPr>
        <p:spPr>
          <a:xfrm>
            <a:off x="5500800" y="371484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1= 4A;    I2=6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66"/>
          <p:cNvSpPr/>
          <p:nvPr/>
        </p:nvSpPr>
        <p:spPr>
          <a:xfrm>
            <a:off x="5276880" y="55720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1= 10A;   I2=4A;   I3=6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357360" y="1071360"/>
            <a:ext cx="550044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Всем Спасибо за работу 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99720" y="3286080"/>
            <a:ext cx="3886200" cy="1357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3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Молодцы!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50" name="Содержимое 3" descr="C:\Program Files\Microsoft Office\MEDIA\CAGCAT10\j0281904.wmf"/>
          <p:cNvPicPr/>
          <p:nvPr/>
        </p:nvPicPr>
        <p:blipFill>
          <a:blip r:embed="rId1"/>
          <a:stretch/>
        </p:blipFill>
        <p:spPr>
          <a:xfrm>
            <a:off x="5218200" y="3100320"/>
            <a:ext cx="1825560" cy="1724040"/>
          </a:xfrm>
          <a:prstGeom prst="rect">
            <a:avLst/>
          </a:prstGeom>
          <a:ln w="0">
            <a:noFill/>
          </a:ln>
        </p:spPr>
      </p:pic>
      <p:pic>
        <p:nvPicPr>
          <p:cNvPr id="651" name="Рисунок 4" descr="C:\Program Files\Microsoft Office\MEDIA\CAGCAT10\j0234131.wmf"/>
          <p:cNvPicPr/>
          <p:nvPr/>
        </p:nvPicPr>
        <p:blipFill>
          <a:blip r:embed="rId2"/>
          <a:stretch/>
        </p:blipFill>
        <p:spPr>
          <a:xfrm>
            <a:off x="214200" y="642960"/>
            <a:ext cx="19591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Вопросы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42600" y="1142640"/>
            <a:ext cx="8015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. Что представляет собой электрический ток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. О каких трёх величинах идёт речь в законе Ома для участка цепи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. Что называют силой ток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. Назовите единицу измерения силы ток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. Что называется напряжением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6. Как формулируется закон Ома для участка цепи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. Как сопротивление проводника зависит от длин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водника и от площади поперечного сечения проводник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8. Назовите единицу измерения напряже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9.Как называется физическое тело, не проводящее электрический ток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0. Назовите единицу измерения сопротивле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1. Как рассчитать мощность потребителя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2. Как рассчитать мощность источника питания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3. В каких единицах измеряется мощность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В каких единицах измеряется работа электрического ток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Как рассчитать работу электрического тока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608120" indent="-1608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642960" y="571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Физическое  лото»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дание: Напишите около названия каждой физической величины номер формулы, по которой ее можно вычисли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ила тока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пряжение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противление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н Ома для участка цеп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кон Ома для полной цепи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 электрического тока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щность электрического то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14" descr=""/>
          <p:cNvPicPr/>
          <p:nvPr/>
        </p:nvPicPr>
        <p:blipFill>
          <a:blip r:embed="rId1"/>
          <a:stretch/>
        </p:blipFill>
        <p:spPr>
          <a:xfrm>
            <a:off x="3000240" y="857160"/>
            <a:ext cx="857520" cy="7146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2" descr=""/>
          <p:cNvPicPr/>
          <p:nvPr/>
        </p:nvPicPr>
        <p:blipFill>
          <a:blip r:embed="rId2"/>
          <a:stretch/>
        </p:blipFill>
        <p:spPr>
          <a:xfrm>
            <a:off x="3143160" y="1428840"/>
            <a:ext cx="1000080" cy="8571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0" descr=""/>
          <p:cNvPicPr/>
          <p:nvPr/>
        </p:nvPicPr>
        <p:blipFill>
          <a:blip r:embed="rId3"/>
          <a:stretch/>
        </p:blipFill>
        <p:spPr>
          <a:xfrm>
            <a:off x="3429000" y="2357280"/>
            <a:ext cx="1214280" cy="7858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" descr=""/>
          <p:cNvPicPr/>
          <p:nvPr/>
        </p:nvPicPr>
        <p:blipFill>
          <a:blip r:embed="rId4"/>
          <a:stretch/>
        </p:blipFill>
        <p:spPr>
          <a:xfrm>
            <a:off x="4857840" y="3929040"/>
            <a:ext cx="857160" cy="7142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"/>
          <p:cNvPicPr/>
          <p:nvPr/>
        </p:nvPicPr>
        <p:blipFill>
          <a:blip r:embed="rId5"/>
          <a:stretch/>
        </p:blipFill>
        <p:spPr>
          <a:xfrm>
            <a:off x="4786200" y="3071880"/>
            <a:ext cx="1285920" cy="7142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" descr=""/>
          <p:cNvPicPr/>
          <p:nvPr/>
        </p:nvPicPr>
        <p:blipFill>
          <a:blip r:embed="rId6"/>
          <a:stretch/>
        </p:blipFill>
        <p:spPr>
          <a:xfrm>
            <a:off x="4714920" y="5000760"/>
            <a:ext cx="1357200" cy="3571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" descr=""/>
          <p:cNvPicPr/>
          <p:nvPr/>
        </p:nvPicPr>
        <p:blipFill>
          <a:blip r:embed="rId7"/>
          <a:stretch/>
        </p:blipFill>
        <p:spPr>
          <a:xfrm>
            <a:off x="5143680" y="5643720"/>
            <a:ext cx="1285560" cy="4284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15"/>
          <p:cNvSpPr/>
          <p:nvPr/>
        </p:nvSpPr>
        <p:spPr>
          <a:xfrm>
            <a:off x="0" y="3405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зическое  лот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6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4481640" y="494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9"/>
          <p:cNvSpPr/>
          <p:nvPr/>
        </p:nvSpPr>
        <p:spPr>
          <a:xfrm>
            <a:off x="911160" y="95256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1"/>
          <p:cNvSpPr/>
          <p:nvPr/>
        </p:nvSpPr>
        <p:spPr>
          <a:xfrm>
            <a:off x="911160" y="989640"/>
            <a:ext cx="230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ока –  ( 7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яжение – ( 5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2"/>
          <p:cNvSpPr/>
          <p:nvPr/>
        </p:nvSpPr>
        <p:spPr>
          <a:xfrm>
            <a:off x="0" y="148608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4"/>
          <p:cNvSpPr/>
          <p:nvPr/>
        </p:nvSpPr>
        <p:spPr>
          <a:xfrm>
            <a:off x="0" y="2030760"/>
            <a:ext cx="4214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ротивление – ( 6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5"/>
          <p:cNvSpPr/>
          <p:nvPr/>
        </p:nvSpPr>
        <p:spPr>
          <a:xfrm>
            <a:off x="0" y="198108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7"/>
          <p:cNvSpPr/>
          <p:nvPr/>
        </p:nvSpPr>
        <p:spPr>
          <a:xfrm>
            <a:off x="0" y="2370960"/>
            <a:ext cx="49291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ма для участка цепи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1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электрического тока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4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8"/>
          <p:cNvSpPr/>
          <p:nvPr/>
        </p:nvSpPr>
        <p:spPr>
          <a:xfrm>
            <a:off x="0" y="247644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0"/>
          <p:cNvSpPr/>
          <p:nvPr/>
        </p:nvSpPr>
        <p:spPr>
          <a:xfrm>
            <a:off x="0" y="2974680"/>
            <a:ext cx="4929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ма для полной цепи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2 )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1"/>
          <p:cNvSpPr/>
          <p:nvPr/>
        </p:nvSpPr>
        <p:spPr>
          <a:xfrm>
            <a:off x="0" y="297180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3"/>
          <p:cNvSpPr/>
          <p:nvPr/>
        </p:nvSpPr>
        <p:spPr>
          <a:xfrm>
            <a:off x="0" y="3285720"/>
            <a:ext cx="428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4"/>
          <p:cNvSpPr/>
          <p:nvPr/>
        </p:nvSpPr>
        <p:spPr>
          <a:xfrm>
            <a:off x="0" y="3247920"/>
            <a:ext cx="360" cy="3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6"/>
          <p:cNvSpPr/>
          <p:nvPr/>
        </p:nvSpPr>
        <p:spPr>
          <a:xfrm>
            <a:off x="428760" y="3584520"/>
            <a:ext cx="47149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щность электрического тока- ( 3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41440" y="285840"/>
            <a:ext cx="770256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65c"/>
                </a:solidFill>
                <a:latin typeface="Times New Roman"/>
                <a:ea typeface="Times New Roman"/>
              </a:rPr>
              <a:t>ПРИБОРЫ –ОРУЖИЕ ФИЗИК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934560" y="2133720"/>
            <a:ext cx="8209080" cy="42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бор для обнаружения электрического заряд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бор для регулирования силы тока в цеп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бор для измерения силы то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бор, которым измеряют мощность электрического тока в цеп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бор, который включается в цепь, параллельно тому участку цепи, где измеряют напряж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42960" y="-50004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br>
              <a:rPr sz="900"/>
            </a:br>
            <a:r>
              <a:rPr b="1" i="1" lang="ru-RU" sz="1000" spc="-1" strike="noStrike">
                <a:solidFill>
                  <a:srgbClr val="04617b"/>
                </a:solidFill>
                <a:latin typeface="Calibri"/>
              </a:rPr>
              <a:t>                                                                </a:t>
            </a:r>
            <a:br>
              <a:rPr sz="1400"/>
            </a:br>
            <a:r>
              <a:rPr b="0" lang="ru-RU" sz="3600" spc="-1" strike="noStrike">
                <a:solidFill>
                  <a:srgbClr val="04617b"/>
                </a:solidFill>
                <a:latin typeface="Arial Black"/>
              </a:rPr>
              <a:t>Практическое задани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24" name="Содержимое 10" descr="F:\data\articles\51\5168\516892\Image3041.gif"/>
          <p:cNvPicPr/>
          <p:nvPr/>
        </p:nvPicPr>
        <p:blipFill>
          <a:blip r:embed="rId1"/>
          <a:stretch/>
        </p:blipFill>
        <p:spPr>
          <a:xfrm>
            <a:off x="1785960" y="1357200"/>
            <a:ext cx="2138400" cy="2389320"/>
          </a:xfrm>
          <a:prstGeom prst="rect">
            <a:avLst/>
          </a:prstGeom>
          <a:ln w="0">
            <a:noFill/>
          </a:ln>
        </p:spPr>
      </p:pic>
      <p:pic>
        <p:nvPicPr>
          <p:cNvPr id="625" name="Содержимое 13" descr="F:\data\articles\51\5136\513639\image3.gif"/>
          <p:cNvPicPr/>
          <p:nvPr/>
        </p:nvPicPr>
        <p:blipFill>
          <a:blip r:embed="rId2"/>
          <a:stretch/>
        </p:blipFill>
        <p:spPr>
          <a:xfrm>
            <a:off x="5214960" y="3714840"/>
            <a:ext cx="2214720" cy="214308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11" descr="F:\data\articles\51\5136\513639\image6.gif"/>
          <p:cNvPicPr/>
          <p:nvPr/>
        </p:nvPicPr>
        <p:blipFill>
          <a:blip r:embed="rId3"/>
          <a:stretch/>
        </p:blipFill>
        <p:spPr>
          <a:xfrm>
            <a:off x="2143080" y="3857760"/>
            <a:ext cx="2286000" cy="2143080"/>
          </a:xfrm>
          <a:prstGeom prst="rect">
            <a:avLst/>
          </a:prstGeom>
          <a:ln w="0">
            <a:noFill/>
          </a:ln>
        </p:spPr>
      </p:pic>
      <p:pic>
        <p:nvPicPr>
          <p:cNvPr id="627" name="Рисунок 12" descr="F:\data\articles\51\5168\516892\Image3042.gif"/>
          <p:cNvPicPr/>
          <p:nvPr/>
        </p:nvPicPr>
        <p:blipFill>
          <a:blip r:embed="rId4"/>
          <a:stretch/>
        </p:blipFill>
        <p:spPr>
          <a:xfrm>
            <a:off x="4643280" y="1357200"/>
            <a:ext cx="25178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6286680" y="356760"/>
            <a:ext cx="2535120" cy="495612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н расска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ой вид соединения проводников вы использовали в работе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измерения и вычисления  проводили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ак завися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U,R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ида соединения проводникаов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9" name="Рисунок 5" descr="F:\data\articles\50\5080\508072\img1.jpg"/>
          <p:cNvPicPr/>
          <p:nvPr/>
        </p:nvPicPr>
        <p:blipFill>
          <a:blip r:embed="rId2"/>
          <a:stretch/>
        </p:blipFill>
        <p:spPr>
          <a:xfrm>
            <a:off x="208080" y="1133640"/>
            <a:ext cx="6016680" cy="153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0" name=""/>
          <p:cNvGraphicFramePr/>
          <p:nvPr/>
        </p:nvGraphicFramePr>
        <p:xfrm>
          <a:off x="214200" y="3429000"/>
          <a:ext cx="5857920" cy="1177920"/>
        </p:xfrm>
        <a:graphic>
          <a:graphicData uri="http://schemas.openxmlformats.org/drawingml/2006/table">
            <a:tbl>
              <a:tblPr/>
              <a:tblGrid>
                <a:gridCol w="1200240"/>
                <a:gridCol w="1411200"/>
                <a:gridCol w="1552680"/>
                <a:gridCol w="16938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соеди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а т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ряж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противл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Заголовок 9" descr=""/>
          <p:cNvPicPr/>
          <p:nvPr/>
        </p:nvPicPr>
        <p:blipFill>
          <a:blip r:embed="rId1"/>
          <a:stretch/>
        </p:blipFill>
        <p:spPr>
          <a:xfrm>
            <a:off x="304920" y="633240"/>
            <a:ext cx="2700360" cy="123192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213840" y="2214720"/>
            <a:ext cx="3071880" cy="164304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М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Георг Симон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6 марта 1787 Эрланген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6 июля 1854    Мюнхен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33" name="Рисунок 2" descr="http://www.piplz.ru/photo/Ohm.jpg"/>
          <p:cNvPicPr/>
          <p:nvPr/>
        </p:nvPicPr>
        <p:blipFill>
          <a:blip r:embed="rId2"/>
          <a:stretch/>
        </p:blipFill>
        <p:spPr>
          <a:xfrm>
            <a:off x="3492360" y="609480"/>
            <a:ext cx="5054760" cy="113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1857240" y="1500120"/>
          <a:ext cx="5786640" cy="4572000"/>
        </p:xfrm>
        <a:graphic>
          <a:graphicData uri="http://schemas.openxmlformats.org/drawingml/2006/table">
            <a:tbl>
              <a:tblPr/>
              <a:tblGrid>
                <a:gridCol w="412920"/>
                <a:gridCol w="414360"/>
                <a:gridCol w="412560"/>
                <a:gridCol w="412920"/>
                <a:gridCol w="414360"/>
                <a:gridCol w="412560"/>
                <a:gridCol w="414360"/>
                <a:gridCol w="412920"/>
                <a:gridCol w="412560"/>
                <a:gridCol w="414360"/>
                <a:gridCol w="412920"/>
                <a:gridCol w="412560"/>
                <a:gridCol w="414360"/>
                <a:gridCol w="412920"/>
              </a:tblGrid>
              <a:tr h="3812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5" name="Прямоугольник 2"/>
          <p:cNvSpPr/>
          <p:nvPr/>
        </p:nvSpPr>
        <p:spPr>
          <a:xfrm>
            <a:off x="3297960" y="500040"/>
            <a:ext cx="268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6-12-14T19:23:05Z</dcterms:modified>
  <cp:revision>81</cp:revision>
  <dc:subject/>
  <dc:title>ЗАЧЕТНО - ОБОБЩАЮЩИЙ УРОК ПО ТЕМЕ:                            « ЗАКОНЫ ПОСТОЯННОГО ТОКА»</dc:title>
</cp:coreProperties>
</file>